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AF2-3B40-4CB6-88C3-9464798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F1D-E6D5-4079-B34D-64561740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F23-FADC-4EDD-8CB2-E97205F2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942-8BF9-4A4D-AB6A-2DC5C37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0F76-74E6-4FDC-8B97-44463E1C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67E2-A3D1-42ED-B01F-CD6B4EA3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AAA9-46D9-44FF-83D4-3FEA571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5ED-AFD8-43BE-B1B5-0DF03AFB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F16-83B4-49FF-9FD2-49807E8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367-69F5-4EA7-B457-7C97A53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27A-29A5-47C6-BEC5-E39BFDA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AC0-583C-4773-910C-505584E3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4FA-F5E7-4F3D-AAB7-AE95EEA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F7FA-3A8A-49FF-9477-DD6F46D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724B-5481-4F3F-BC2D-A34F485D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E43-0E15-4B42-AB8A-7CE328E1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EA7-D56C-4B4A-BD36-E9FFE04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CFB-50AD-4CF0-9CC3-47D3A9F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820-2ED5-4140-8DE9-A5AC2C12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9E5-5D52-4961-BA78-CD83389E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383-1F3A-4D41-88D9-11FEF0F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F9-49FF-4E89-A524-410BA16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185-E26D-4057-BD05-B9DDC0C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73C-E08F-4484-B913-036072FA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829-8515-4835-8EBB-4B1D4733A8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6E7-4DCC-4433-A8F3-E33D3AF00F0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357200"/>
            <a:ext cx="82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  КАКОМ СЛОВЕ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СЕ СОГЛАСНЫЕ ТВЁРДЫЕ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3286080" y="271476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ЖИРАФ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3286080" y="342900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СКВОРЕЦ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286080" y="414324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ЧАСТУШ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3286080" y="492912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УРОЖАЙ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71320"/>
            <a:ext cx="7920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357200"/>
            <a:ext cx="82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  КАКОМ СЛОВЕ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СЕ СОГЛАСНЫЕ  МЯГКИЕ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286080" y="2714760"/>
            <a:ext cx="38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ШИПЕТ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3286080" y="342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РУЧЕЙ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ДЕНЁК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32860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ЧАЙКИ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996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  КАКОМ СЛОВЕ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СЕ СОГЛАСНЫЕ  ЗВОНКИЕ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3286080" y="271476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ОСИН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3286080" y="342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КЛЁН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БЕРЁЗ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2860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ЛИП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71320"/>
            <a:ext cx="7920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38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  КАКОМ СЛОВЕ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СЕ СОГЛАСНЫЕ  ГЛУХИЕ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3286080" y="27147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ХЛЕБ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3286080" y="342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ЦАПЛЯ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ШАРФ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32860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ФОКУС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996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38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КАКОЕ  СЛОВО  МОЖНО 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         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РАЗДЕЛИТЬ  ДЛЯ  ПЕРЕНОСА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3286080" y="27147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ДВО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3286080" y="342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ОДИН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МАЯК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32860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ГРУСТ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19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КАКОЕ  СЛОВО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ЕРНО  РАЗДЕЛЕНО  ДЛЯ  ПЕРЕНОСА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3286080" y="2714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2f131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ЛЕ – Й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3286080" y="342900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2f1311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ТЕТ – РАД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2f1311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ЛИ – ТР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3286080" y="4929120"/>
            <a:ext cx="37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2f1311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ЛИН – Ь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996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246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ПОСЧИТАЙ КОЛИЧЕСТВО СЛОГОВ,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      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НАЙДИ ЛИШНЕЕ СЛОВО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3286080" y="27147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ДВОЕ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3286080" y="342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ОДИН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3286080" y="4143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МАЯК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3286080" y="4929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ГРУСТ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844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2d050"/>
                </a:solidFill>
                <a:latin typeface="Arial Narrow"/>
              </a:rPr>
              <a:t>Звуки и буквы. Ударение.</a:t>
            </a:r>
            <a:br>
              <a:rPr sz="3600"/>
            </a:br>
            <a:endParaRPr b="0" lang="en-US" sz="4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2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В  КАКОМ  СЛОВЕ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       </a:t>
            </a:r>
            <a:r>
              <a:rPr b="0" lang="ru-RU" sz="3000" spc="-1" strike="noStrike">
                <a:solidFill>
                  <a:srgbClr val="2f1311"/>
                </a:solidFill>
                <a:latin typeface="Arial Narrow"/>
              </a:rPr>
              <a:t>УДАРЕНИЕ  ПАДАЕТ  НА ТРЕТИЙ  СЛОГ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3286080" y="2714760"/>
            <a:ext cx="29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1.  ОСИНА  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286080" y="342900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2.  ПЛОЩАДКА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3286080" y="414324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3.  МЕДВЕДЬ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3286080" y="4929120"/>
            <a:ext cx="31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4.  ОГОРОД</a:t>
            </a:r>
            <a:endParaRPr b="0" lang="en-US" sz="32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Саченко</dc:creator>
  <dc:description/>
  <dc:language>en-US</dc:language>
  <cp:lastModifiedBy>Игорь Саченко</cp:lastModifiedBy>
  <dcterms:modified xsi:type="dcterms:W3CDTF">2009-01-26T07:12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